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103-F82B-4C9A-98D7-A933F80F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5B6-47D9-40DD-BCEC-26E7072F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6E2-4B86-42A5-A647-A3EEA0E2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8A6-4CD8-439B-A903-98C535C4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DA0E-5757-4D60-B0B8-C04259B9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C9A7-CC95-4E6B-A519-E3089588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5DCF-D66F-42D3-AA9D-A35193FD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BD4F-DDB8-410A-AAF1-853115C6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9E9B-F636-436E-9012-1B21A76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2763-F733-4530-958E-582F90B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9A59-17D5-476C-B32C-15F41C9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E50-3EB8-4D93-9F13-2D47C4A2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132-33D0-4969-9226-EE2BE18B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CD28-B49C-4312-9A6E-D980612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CB49-1A51-43F6-B5C3-F0F3817E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40C-0F66-4495-A7CB-DFBC3661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415B-A626-448B-B366-68AE9257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11C-A026-4B21-AD87-BFFEFC05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9DD-77D2-4ED3-A8B5-D7CBA975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390-D555-480B-80E4-88907DD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40A-F784-4C12-9474-86F44B25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0DF-BE33-4CA8-8CF0-74CF33A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E7D-1288-4B28-AE2E-C0EE30F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721-FEBA-4BF2-9774-4CAFA81F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77F4-E494-4502-B8F8-633D0C7649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6AB-6A83-45ED-83AE-16AB7AEFC2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41400"/>
                </a:solidFill>
                <a:latin typeface="Arial"/>
              </a:rPr>
              <a:t>IMPRESJONIZM W SZTUCE </a:t>
            </a:r>
            <a:br>
              <a:rPr sz="3200"/>
            </a:br>
            <a:r>
              <a:rPr b="1" lang="pl-PL" sz="3200" spc="-1" strike="noStrike">
                <a:solidFill>
                  <a:srgbClr val="141400"/>
                </a:solidFill>
                <a:latin typeface="Arial"/>
              </a:rPr>
              <a:t>I LITERARURZE MODERNISTYCZNEJ</a:t>
            </a:r>
            <a:br>
              <a:rPr sz="3200"/>
            </a:br>
            <a:r>
              <a:rPr b="0" lang="pl-PL" sz="2000" spc="-1" strike="noStrike">
                <a:solidFill>
                  <a:srgbClr val="141400"/>
                </a:solidFill>
                <a:latin typeface="Arial"/>
              </a:rPr>
              <a:t>mgr Aneta Błyszczek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RESJONIZ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ierunek artystyczno- literacki przełomu XIX/ XXw., który głosił, że zadaniem sztuki jest przedstawienie ulotnych wrażeń artys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aksymalne zbliżenie do natur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ubiektywne utrwalenie zjawisk jednolitych( w zależności od własnego nastroju , oświetlenia, kąta patrzeni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TUŁ TEGO OBRAZU PRZYJĘTO JAKO NAZWĘ DLA CAŁEGO KIERUNKU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MONET  „IMPRESJA- WSCHÓD SŁOŃCA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BRAZY MALARZY IMPRESJONISÓW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PISARRO, „DROGA W LOVECIENN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MO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ŚNIADANIE NA TRAWI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3600" y="3938760"/>
            <a:ext cx="296568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5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OLSCY MALARZE IMPRESJONIŚC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PANKIEWI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Ł. PODKOWIŃ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GIERYM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 BOZNAŃ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. WYCZÓŁKOW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5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.GIERYMSKI „JESIEŃ”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90680" y="1600200"/>
            <a:ext cx="6361200" cy="4525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. PANKIEWICZ „ LATO”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70120" y="1600200"/>
            <a:ext cx="38019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5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ECHY MALARSTWA IMPRESJONISTYCZNE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danie wrażeń optycznych, odbieranych w pełnym świetle słoneczny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otność efektów światła słoneczn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ydobywano odcienie kolorów niezauważalne w przyrodz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płótnie posługiwano się pla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MPRESJONIZM W POLSKIEJ LITERATURZE MODERNISTYCZNEJ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.Przerwa- Tetmajer „ Widok ze Świnicy do doliny Wierchcichej”’, „Melodia mgieł nocny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. Kasprowicz „Krzak dzikiej róż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ł. Reymont „Chłopi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.Żeromski „Ludzie bezdomni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1:56:13Z</dcterms:created>
  <dc:creator>Administrator</dc:creator>
  <dc:description/>
  <dc:language>en-US</dc:language>
  <cp:lastModifiedBy>Administrator</cp:lastModifiedBy>
  <dcterms:modified xsi:type="dcterms:W3CDTF">2003-04-04T10:09:08Z</dcterms:modified>
  <cp:revision>5</cp:revision>
  <dc:subject/>
  <dc:title>IMPRESJONIZM W SZTUCE  I LITERARURZE MODERNISTYCZNEJ</dc:title>
</cp:coreProperties>
</file>